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6149-39DA-4FE5-8257-0507DDE97F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w both examples using constants and using 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do the numbers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 := i.Restrict('[Status]=''Not Started'' '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'or [Status]=''In Progress'' '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'or [Status]=''Waiting on someone else''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 := i.Restrict('[Status]=0 '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'or [Status]=1 '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'or [Status]=3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st show (part of) outlook o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 explain the general ste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tall method returns True (or in COM terms S_OK)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extension runs in a certain context. Examples of contexts 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ewer context, that's Exchange main window, or the remote vie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ext, or the address book context, or the property sheet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tion you are implementing objects: Microsoft has defined the interface, you write the imple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that it’s best to show the techniques within Delph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es are probably not very useful, refer to article. Or maybe to show that you are implementing interfa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e 1-4 would be n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due to compiler bug it has to be 6-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you do is return an interface to your exchange extension o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next slide show my object’s interface? Point out that you due some kind of multiple inheritance (interface inheritanc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h Exchange interfaces are implemented within one o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ext can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ECONTEXT_VIEW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ECONTEXT_ADDRBOO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ECONTEXT_SENDNOTEMESSAG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ECONTEXT_READNOTE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 I:show how you can do it. Discuss Outlook’s object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 II: show how you can write exchang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two topics that I want to discuss with you this afternoon. First I show you some examples that use Outlook’s COM interface. You will see how you can create email or create a task. Secondly, I’ll show you how you can be part of Outlook itself. You can now add your own menuitems to Outlook’s menu or add your buttons to Outlook’s buttonb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e 11: store command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e 19: increment, so Outlook knows you installed a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lue is important. If you do something wrong it doesn’t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t field:exchange client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nd field: d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d field: dll ordinal for export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th field: which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th field: which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ore the current context, see lin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ending on context, install but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lk about QueryButtonInfo and Do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when enough time. Can be safely skipp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me to market is important. Use whatever you c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that Outlook is not multi-us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e 5: create Outlook’s only accessible o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e 6: create item of a certain 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e 10: send the e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e 6: create of type Contact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e 9: stor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e 10: display first i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e 11: display: 0 not modal, 1 mod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AC505-CF90-4C40-BC13-9BD9277823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16886-7664-492C-818E-192D10DC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DBDD-3A57-40BD-8A23-4279E852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0662-C419-450A-83C4-088E90091A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B237-00E1-4497-9963-61739A30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9E3E-AFFD-4251-9618-3F318F1E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660B-CF4C-4740-9193-5BBB4918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19A0-43D9-4375-B271-BA761E17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2411-1318-4477-AA35-02E1215A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CD15-F935-476D-80C7-3F89B62C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58C3-4BE9-42BC-9E45-30686BF3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5DB7-E6F7-4DB5-85F9-A9254DE4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04280" indent="-262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7521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9160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F449-2180-46B1-8BC0-601CD755E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  <p:pic>
        <p:nvPicPr>
          <p:cNvPr id="6" name="symbols" descr=""/>
          <p:cNvPicPr/>
          <p:nvPr/>
        </p:nvPicPr>
        <p:blipFill>
          <a:blip r:embed="rId4"/>
          <a:stretch/>
        </p:blipFill>
        <p:spPr>
          <a:xfrm>
            <a:off x="76320" y="228600"/>
            <a:ext cx="1466640" cy="122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  <p:pic>
        <p:nvPicPr>
          <p:cNvPr id="46" name="symbols" descr=""/>
          <p:cNvPicPr/>
          <p:nvPr/>
        </p:nvPicPr>
        <p:blipFill>
          <a:blip r:embed="rId4"/>
          <a:stretch/>
        </p:blipFill>
        <p:spPr>
          <a:xfrm>
            <a:off x="57240" y="5553000"/>
            <a:ext cx="1466640" cy="1228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indent="138240" algn="ctr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indent="16992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indent="5544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Integrating with Outlook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Berend de Bo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NederWar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nprise DevCon ‘99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Browsing through the Tasks fold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1. var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2.   app: Application_;    ns: NameSpace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3.   tf: MAPIFolder;        i: Items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4.   j: integer;           ti: TaskIte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5.   f: TextFile;           s: string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6. begin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7.   app := CoApplication_.Create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8.   ns := app.GetNamespace('MAPI'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9.   tf := ns.GetDefaultFolder(olFolderTasks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10.   i := tf.Items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11.   AssignFile(f, 'tasks.txt');  Rewrite(f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13.   for j := 1 to i.Count do  begin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14.     ti := i.Item(j) as TaskIte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15.     s := ti.Subjec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16.     writeln(f, s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17.   end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18.   CloseFile(f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19. end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Browsing with restriction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  app := CoApplication_.Creat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ns := app.GetNamespace('MAPI'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   tf := ns.GetDefaultFolder(olFolderTasks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   i := tf.Items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   ri := i.Restrict('[Status]=Not Started' +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'or [Status]=In Progress' +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'or [Status]=3'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   for j := 1 to ri.Count do 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     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Sending email with an attach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v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   app: Application_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 mi: MailItem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 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    app := CoApplication_.Creat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    mi := app.CreateItem(olMailItem) as MailItem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    mi.To_ := 'berend@nothere.nl'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    mi.Subject := 'Things to do'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    mi.Body := ’Attached are all active tasks.'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    mi.Attachments.Add('tasks.txt', olByValue, 0, 'To do list'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1.    mi.S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2. 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Outlook’s Object Model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16" name="1292d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792468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IMailItem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_MailItemDisp = dispinterfac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['{00063034-0000-0000-C000-000000000046}']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operty Application_: Application_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operty Attachments: Attachments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operty Body: WideString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operty Companies: WideString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operty Saved: WordBool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operty Sensitivity: OlSensitivity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operty Size: Integer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operty Subject: WideString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operty UnRead: WordBool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Extending Outlook’s menu and toolba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dding a menu item to Outlo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dding a button to Outlo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howing a Delphi form within Outlo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dding a Delphi ActiveX control to an Outlook for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For every Exchange Extens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reate the Exchange entry poi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What you 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mplement </a:t>
            </a:r>
            <a:r>
              <a:rPr b="0" i="1" lang="en-GB" sz="3200" spc="-1" strike="noStrike">
                <a:solidFill>
                  <a:srgbClr val="ffffff"/>
                </a:solidFill>
                <a:latin typeface="Arial Narrow"/>
              </a:rPr>
              <a:t>IExchEx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Method 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Install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: when you want to show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mplement </a:t>
            </a:r>
            <a:r>
              <a:rPr b="0" i="1" lang="en-GB" sz="3200" spc="-1" strike="noStrike">
                <a:solidFill>
                  <a:srgbClr val="ffffff"/>
                </a:solidFill>
                <a:latin typeface="Arial Narrow"/>
              </a:rPr>
              <a:t>IExchExtComman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Method 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InstallCommands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What you want to show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Method 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DoCommand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: What you want to d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egister your Extens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Where you 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Create the Exchange entry poi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. function ExchEntryPoint: IExchExt; cdecl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2. begi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3.   Result := TExchExt.Create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4. end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5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6. function ExchEntryPoint: pointer; cdecl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7. var ExchExt: IExchEx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9. begi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0.   try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1.     ExchExt := TExchExt.Create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2.     ExchExt._AddRef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3.     Result := pointer(ExchExt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4.   excep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5.     on E:Exception do  begi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6.       ShowMessage(E.Message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7.       Result := nil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8.     end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9.   end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20. end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Delphi does multiple inheritanc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One Delpi object can implement multiple interfa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TExchExt = class(TInterfacedObject, IExchExt, IExchExtCommands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rotected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{ IExchExt 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unction Install(...): HResult; stdcall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{ IExchExtCommands 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unction InstallCommands(...): HResult; stdcall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rocedure InitMenu(...); stdcall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unction DoCommand(...): HResult; stdcall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unction Help(...): HResult; stdcall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unction QueryHelpText(...): HResult; stdcall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unction QueryButtonInfo(...): HResult; stdcall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unction ResetToolbar(...): HResult; stdcall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rivate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CommandNum: UIN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Implement IExchExt.Install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function TExchExt.Install(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  eecb: IEXCHEXTCALLBACK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mecontext: ULONG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   ulFlags: ULONG): HResul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   case mecontext of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     EECONTEXT_VIEWER: Result := S_OK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   el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     Result := S_FALS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   end; { of case 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1.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What you will lear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all Outlook through its COM interfac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you can create messag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or browse through a fold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Be a part of Outlook by writing an Exchange Extension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You can add yourself to Outlook’s menu’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or to Outlook’s button bar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Implement ExchExtCommands. InstallCommand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. function TExchExt.InstallCommands(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2.   eecb: IEXCHEXTCALLBACK;  hwnd: HWND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3.   hmenu: HMENU;            var cmdidBase: UIN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4.   lptbeArray: LPTBENTRY;   ctbe: UINT; 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5.   ulFlags: ULONG): HResul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6. var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7.   r: HResult;  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8.   hMenuTools: Windows.HMENU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9. begi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0.   r := eecb.GetMenuPos(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ECMDID_ToolsOptions, hMenuTools, nil, nil, 0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1.   MyCommandNum := cmdidBase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2.   AppendMenu(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hMenuTools, MF_BYPOSITION and MF_STRING,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yCommandNum, 'Hello World 1'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3.   Inc(cmdidBase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4.   Result := S_OK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5. end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Arial Narrow"/>
              </a:rPr>
              <a:t>Implement IExchExtCommands.DoCommand</a:t>
            </a:r>
            <a:endParaRPr b="1" lang="en-US" sz="40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function TExchExt.DoCommand(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  eecb: IEXCHEXTCALLBACK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cmdid: UINT): HResul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   if cmdid = MyCommandNu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     then 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       ShowMessage('Hello World 1!'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       Result := S_OK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     en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     el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1.       Result := S_FALS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2.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Register your extens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Key: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HKEY_LOCAL_MACHINE\SOFTWARE\Microsoft\Exchange\Client\Extens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Value: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4.0;e:\winnt\system32\helloworld1.DLL;1;010000;10000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The steps agai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Extensions live in DLL’s. The DLL contain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Exchange entry poi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Implements 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IExchEx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Implements 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IExchtExtCommand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egister your DL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Adding a button to Outlook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ExchExt.Instal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store current contex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ExchExtCommands.InstallComman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Depending on context, show butt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ExchExtCommands.QueryButtonInf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add the butt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ExchExtCommands.DoComman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do the real wor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Adding a button: IExchExt.Install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function TExchExt.Install(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  eecb: IEXCHEXTCALLBACK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mecontext: ULONG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   ulFlags: ULONG): HResul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   CurrentContext := mecontex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   case mecontext of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     EECONTEXT_VIEWER,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ECONTEXT_SENDNOTEMESSAGE: Result := S_OK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   el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     Result := S_FALS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1.   end; { of case 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2.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 Narrow"/>
              </a:rPr>
              <a:t>Adding a button: IExchExtCommands.InstallCommands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function TExchExt.InstallCommands(...): HResul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v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r: HResult; 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   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   case CurrentContext of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    EECONTEXT_VIEWER: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AddMainWindowButton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    EECONTEXT_SENDNOTEMESSAGE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AddNewMessageMenuItemAndButton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1.  el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2.    r := S_FALS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3. 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4.  Result := r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5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Showing a Delphi form within Outlook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n </a:t>
            </a:r>
            <a:r>
              <a:rPr b="0" i="1" lang="en-GB" sz="3200" spc="-1" strike="noStrike">
                <a:solidFill>
                  <a:srgbClr val="ffffff"/>
                </a:solidFill>
                <a:latin typeface="Arial Narrow"/>
              </a:rPr>
              <a:t>IExchExtCommands.DoCommand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 just show a normal Delphi form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. function TExchExt.DoCommand(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2.           eecb: IEXCHEXTCALLBACK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3.           cmdid: UINT): HResul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4. begi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5.   if cmdid = MyCommandNum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6.     then  begi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7.       Form1 := TForm1.Create(nil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8.       Form1.Show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9.       Result := S_OK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0.    end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1.    els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2.      Result := S_FALSE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13. end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Showing a Delphi ActiveX control to an Outlook form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reate an ActiveX control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egister it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In Outlook, choose Design a form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hoose the Control Toolbox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Left click it. A menu pops up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hoose "Custom Control..."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hoose your ActiveX control from the list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Drop it on the form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Compiling the exampl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Decide which type library you want to support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You need translated MAPI header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You need ExchExt.pa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What can you do?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reating an anti-spam filter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ynchronizing your corporate addressbook with Outlook's Contacts folder so mobile users still have access to all addresse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reating an order entry application. As soon as an order is committed, it is stored in the corporate databas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Writing a import or export program for messages, schedules or addressbook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Thank you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Further reading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Outlook’s COM interface: "Automating Microsoft Outlook 98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"Extending the Microsoft Exchange Client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 Narrow"/>
              </a:rPr>
              <a:t>Any questions? You may raise them now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Don’t use Outlook in these cas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Replic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Program Outlook using COM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ending an email mess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reating a conta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Displaying a conta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Browsing through the tasks fold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Browsing through a restricted view to the tasks fold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Sending email with an attach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For every Outlook COM interfac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Use OutlookXX_TLB.PA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Call CoApplication_.Create  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hrough Application_ obtain other object reference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And now the demo’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Sending an email Messag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v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  app: Application_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mi: MailItem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   app := CoApplication_.Creat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   mi := app.CreateItem(olMailItem) as MailItem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   mi.To_ := 'berend@nothere.nl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   mi.Subject := 'This is the subject'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   mi.Body := 'This is the message itself'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   mi.S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1.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Creating a Contac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v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  app: Application_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ci: ContactItem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   app := CoApplication_.Creat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   ci := app.CreateItem(olContactItem) as ContactItem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   ci.FullName := 'Test person'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   ci.Companies := 'NederWare'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   ci.Sav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 Narrow"/>
              </a:rPr>
              <a:t>Displaying a Contac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. v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2.   app: Application_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3.   ns: NameSpac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4.   cf: MAPIFolder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5.   ci: ContactItem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6. beg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7.   app := CoApplication_.Create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8.   ns := app.GetNamespace('MAPI'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9.   cf := ns.GetDefaultFolder(olFolderContacts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0.   ci := cf.Items.Item(1) as ContactItem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1.   ci.Display(0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12. en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1T16:03:56Z</dcterms:created>
  <dc:creator>Berend de Boer</dc:creator>
  <dc:description/>
  <dc:language>en-US</dc:language>
  <cp:lastModifiedBy>Berend de Boer</cp:lastModifiedBy>
  <cp:lastPrinted>1999-07-12T11:24:32Z</cp:lastPrinted>
  <dcterms:modified xsi:type="dcterms:W3CDTF">1999-07-13T18:34:55Z</dcterms:modified>
  <cp:revision>7</cp:revision>
  <dc:subject/>
  <dc:title>Integrating with Outlook</dc:title>
</cp:coreProperties>
</file>