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2B20-3A53-41D0-ACAC-928B66459B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lain what each stored procedure do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ent examp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lain i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itch to query analyz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 i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y you leave out the functions in the next two examples as they are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be a nice touch is to forget the output? So it does not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t at box at the top, SQL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SQLXProc.Run isn’t that interesting at all. It check parameters, if required (if ExpectedParams &lt;&gt; -1). Next calls Execute and traps any exceptions. Finally it returns SRV_DONE_MORE using srv_send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mo using SQL Server 7 Enterprise 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time show SQL Server 6.5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monstrate this by attempting to delete the dll. Does not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 DBCC F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ow you can delet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mo code and live sql server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sql demo example her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 the UDF that does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 col1, col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o #tabl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om tabl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lare my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n my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tch next from my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le (@@fetch_status = 0) do 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c sp_myfunc col2, @col2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date #table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tch next from my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llocate my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 * from #tabl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ent examp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lain i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itch to query analyz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 i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AE70-01ED-40FD-AE36-4DDE92C9E2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03DD-97B3-41C9-B0B2-882143DA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670F-3D71-40B0-8F7B-F447A268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4040-AA4B-4E24-8E62-CEB46024E9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B650-3513-419F-B7B8-FFDD513B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4109-FC08-43C5-AEFF-1634E1F2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DF52-9CA6-4886-A886-211C204B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B3A0-2E79-49FC-9D5B-9D9C7B2D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B6E4-E47A-4EAD-B007-D62D1716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9A48-A763-4B55-B3B9-E14035E8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9D3B-0DB7-4066-ADD1-0418F637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8C7A-A1E8-4F9C-B543-645C0F49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42C0-37BE-4212-8AF4-5B9DCD9D4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6" name="symbols" descr=""/>
          <p:cNvPicPr/>
          <p:nvPr/>
        </p:nvPicPr>
        <p:blipFill>
          <a:blip r:embed="rId4"/>
          <a:stretch/>
        </p:blipFill>
        <p:spPr>
          <a:xfrm>
            <a:off x="76320" y="228600"/>
            <a:ext cx="1466640" cy="12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46" name="symbols" descr=""/>
          <p:cNvPicPr/>
          <p:nvPr/>
        </p:nvPicPr>
        <p:blipFill>
          <a:blip r:embed="rId4"/>
          <a:stretch/>
        </p:blipFill>
        <p:spPr>
          <a:xfrm>
            <a:off x="57240" y="5553000"/>
            <a:ext cx="1466640" cy="1228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13824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1699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5544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Writing MS SQL Extended Stored Procedures With Delphi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Berend de Bo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NederWa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nprise DevCon ‘9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Exampl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1. xp_incbyone1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2. xp_incbyone2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3. xp_delphiech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4. xp_delphidiskli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xp_incbyone1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eclar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@mynumber integ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select @mynumber = 1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 master..xp_incbyone1 @mynumber outpu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select @mynumb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Implementing xp_incbyone1 - 1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typ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  TXPIncByOne1 = class(TSQLXProc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  function Execute: Boolean; overrid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 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function TXPIncByOne1.Execute: Boolean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Params[1] := Params[1] + 1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  Result := Tru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Implementing xp_incbyone1 - 2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function xp_incbyone1(srvproc: PSRV_PROC): SRVRETCODE; stdcall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cons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ExpectedParams = 1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v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  xp: TSQLXProc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  xp := TXPIncByOne1.Create(srvproc, ExpectedParams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Result := xp.Run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  xp.Fre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1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2. expor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3.   xp_incbyone1 index 1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xp_incbyone2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eclar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@mynumber integ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select @mynumber = 1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 master..xp_incbyone2 @mynumb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Implementing xp_incbyone2 - 1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typ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 TXPIncByOne2 = class(TSQLXProc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 function Execute: Boolean; overrid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function TXPIncByOne2.Execute: Boolean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v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myint: integer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  DescribeColumn(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'my column name', SRVINT4, 4, SRVINT4, 4,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@myint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1.   Myint := Params[1] + 1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2.   SendRow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3.   Result := Tru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4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Implementing xp_incbyone2 - 2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function xp_incbyone2(srvproc: PSRV_PROC): SRVRETCODE; stdcall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cons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ExpectedParams = 1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v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  xp: TSQLXProc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  xp := TXPIncByOne2.Create(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srvproc, ExpectedParams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Result := xp.Run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  xp.Fre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xp_delphiecho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eclar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@paramin integer,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@paramout integ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selec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@paramin = 1,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@paramout = 2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 master..xp_delphiecho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@paramin,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@paramout outpu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1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select @paramin, @paramou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xp_delphiecho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function TXPEcho.Execute: Boolean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Params[2] := Params[1]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  Result := Tru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xp_delphdisklis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exec xp_delphidisklis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What you will lear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What are Extended Stored Procedures (xp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What you can do with th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What you cannot do with th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Examples and demo co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How does my xp OOP framework work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nstalling xp’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xp_delphidisklis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. function TXPDiskList.Execute: Boolean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2. var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3.   ..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4. begi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5.   DescribeColumn(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'drive', SRVCHAR, 1, SRVCHAR, 1, @drivename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6.   DescribeColumn(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'bytes free', SRVINT4, 4, SRVINT4, 4,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@space_remaining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7.  drivenums := GetLogicalDrives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8.  for drivename := 'C' to 'Z' do begi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9.    if IsDrive(drivename) then begi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0.       rootname := drivename + ':\'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1.       GetDiskFreeSpace(..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2.       SendRow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3.     end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4.   end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5.   Result := True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6. end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My OOP framework for xp’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133720"/>
            <a:ext cx="7162920" cy="914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QL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3886200"/>
            <a:ext cx="1676520" cy="763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oad xpdelphi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181480"/>
            <a:ext cx="1676520" cy="762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ll xp_incbyone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5181480"/>
            <a:ext cx="1981440" cy="763560"/>
          </a:xfrm>
          <a:prstGeom prst="rect">
            <a:avLst/>
          </a:prstGeom>
          <a:solidFill>
            <a:srgbClr val="cc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reate object o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ype TSQLXPr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3886200"/>
            <a:ext cx="1981440" cy="763560"/>
          </a:xfrm>
          <a:prstGeom prst="rect">
            <a:avLst/>
          </a:prstGeom>
          <a:solidFill>
            <a:srgbClr val="cc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ll TSQLXProc.R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886200"/>
            <a:ext cx="1676520" cy="7635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ll overridd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xecute meth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3" idx="2"/>
            <a:endCxn id="134" idx="0"/>
          </p:cNvCxnSpPr>
          <p:nvPr/>
        </p:nvCxnSpPr>
        <p:spPr>
          <a:xfrm>
            <a:off x="1294920" y="4659480"/>
            <a:ext cx="1080" cy="513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4" idx="3"/>
            <a:endCxn id="135" idx="1"/>
          </p:cNvCxnSpPr>
          <p:nvPr/>
        </p:nvCxnSpPr>
        <p:spPr>
          <a:xfrm>
            <a:off x="2143080" y="5562720"/>
            <a:ext cx="348696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5" idx="0"/>
            <a:endCxn id="136" idx="2"/>
          </p:cNvCxnSpPr>
          <p:nvPr/>
        </p:nvCxnSpPr>
        <p:spPr>
          <a:xfrm flipV="1">
            <a:off x="6629040" y="4659120"/>
            <a:ext cx="1080" cy="513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6" idx="1"/>
            <a:endCxn id="137" idx="3"/>
          </p:cNvCxnSpPr>
          <p:nvPr/>
        </p:nvCxnSpPr>
        <p:spPr>
          <a:xfrm flipH="1">
            <a:off x="4885920" y="4268520"/>
            <a:ext cx="7437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36" idx="0"/>
            <a:endCxn id="132" idx="2"/>
          </p:cNvCxnSpPr>
          <p:nvPr/>
        </p:nvCxnSpPr>
        <p:spPr>
          <a:xfrm flipH="1" flipV="1">
            <a:off x="4037760" y="3057120"/>
            <a:ext cx="2591640" cy="820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2" idx="2"/>
            <a:endCxn id="133" idx="0"/>
          </p:cNvCxnSpPr>
          <p:nvPr/>
        </p:nvCxnSpPr>
        <p:spPr>
          <a:xfrm flipH="1">
            <a:off x="1294920" y="3057480"/>
            <a:ext cx="2743920" cy="820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Administering xp’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get a list of installed xp’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nstalling and removing xp’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permiss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unloading xp’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Unloading a DLL with xp’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When testing you frequently want to replace the dl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However, it’s in u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U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BCC xpdelphi(FRE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Now you can replace xpdelphi.dl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No function workaround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s explained, xp’s cannot be used as a function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438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s a workaround try this techniqu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insert resultset into temporary t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select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col1, col2,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cast(Null as float) as resul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into #mytabl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from mytabl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run xp on this t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exec xp_myfunc ‘#mytable’, ‘col2’, ‘result’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Thank you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Further reading, see MSDN article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Q190987: "Extended Stored Procedures: What Everyone Should Know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Q194661: "SQL Server COM Object Persistence Model"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 Narrow"/>
              </a:rPr>
              <a:t>If you have any questions, raise them now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What are xp’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hey are stored procedures. For the user there is no difference, except maybe the prefix (‘xp_’)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hey can be used with Delphi’s </a:t>
            </a:r>
            <a:r>
              <a:rPr b="0" i="1" lang="en-GB" sz="3200" spc="-1" strike="noStrike">
                <a:solidFill>
                  <a:srgbClr val="ffffff"/>
                </a:solidFill>
                <a:latin typeface="Arial Narrow"/>
              </a:rPr>
              <a:t>TStoredProc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xp’s always live in the master databas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You may grant/revoke permissions as usual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What you can do with xp’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ccept paramet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et paramet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eturn result se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ll steps are option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What you cannot do with xp’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 SQL Server XP is NOT a fun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No such a thing as Interbase UDF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o this doesn’t work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select col1, </a:t>
            </a:r>
            <a:r>
              <a:rPr b="0" lang="en-GB" sz="2800" spc="-1" strike="noStrike">
                <a:solidFill>
                  <a:srgbClr val="ffcc00"/>
                </a:solidFill>
                <a:latin typeface="Courier New"/>
              </a:rPr>
              <a:t>myfunc(col2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rom table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t the end of the session, I’ll present a workaroun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xp_incbyone1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eclar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@mynumber integ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select @mynumber = 1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 master..xp_incbyone1 @mynumber outpu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select @mynumb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xp_delphdisklis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exec xp_delphidisklis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How an xp should be writte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heck input parameters: count and datatyp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Define columns for result s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dd rows to result s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eturn output paramet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eturn function resul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nd some stuff only C programmers need to know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How an Delphi xp should be writte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reate an object of class TSQLProc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mplement its Execute metho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Write a procedure tha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allocates this objec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calls its run meth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frees this objec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1T08:45:17Z</dcterms:created>
  <dc:creator>Berend de Boer</dc:creator>
  <dc:description/>
  <dc:language>en-US</dc:language>
  <cp:lastModifiedBy>Berend de Boer</cp:lastModifiedBy>
  <cp:lastPrinted>1999-07-12T12:03:32Z</cp:lastPrinted>
  <dcterms:modified xsi:type="dcterms:W3CDTF">1999-07-20T11:02:39Z</dcterms:modified>
  <cp:revision>10</cp:revision>
  <dc:subject/>
  <dc:title>Writing MS SQL Extended Stored Procedures with Delphi</dc:title>
</cp:coreProperties>
</file>